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B93-A6C0-42E7-9AF0-3F2B752F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E4A-213B-4843-AC23-10E2E4B2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8C0-CA65-4F16-8AFB-37DE824D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AFA-9E15-4ACC-B4B5-38D1F50D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277-C2FA-4037-A969-EC33459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CC6-F7C9-4E4B-9C11-8360DA0A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D896-A8D9-4EDF-B5F1-A7739F37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A4E-EFAB-4322-B364-C6EF836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4A6-C40F-4498-BE34-EECBE55E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071-4B11-4C89-8169-ECC95F84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84E2-3043-45F2-8DA9-75DA66A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1B10-1AA0-4A6B-A606-274E58FE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0452-D91A-4D46-B9FA-F014CEDD7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nry and Mudg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ob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e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clo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ho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tho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o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ro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no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cu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goe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drov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mul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enry and Mudg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n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op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cut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rob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nry and Mudge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ro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u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mpfi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mepl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kateboa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l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the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awo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al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sl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fr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sl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dcterms:modified xsi:type="dcterms:W3CDTF">2008-10-20T11:14:52Z</dcterms:modified>
  <cp:revision>4</cp:revision>
  <dc:subject/>
  <dc:title>The Art Lesson Group A</dc:title>
</cp:coreProperties>
</file>